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6F1-F47E-44D1-A7F8-14CBAA9A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70F-4404-4DDC-850F-5C4BCA9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487-0B63-4D2C-8765-7D382E15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924-8212-4235-A8E0-4AFDD97B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885-31F7-4878-8CDB-EDE3CB2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987-4CCA-4D6E-A009-4009814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6C8-123B-4B8F-923D-513F2E34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866-5A17-486E-91C7-88AEF210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95D-6AAC-4407-9906-2A417648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7B4-34F2-404F-AE29-AECBB7D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F0E-EDF3-428F-858F-57ADE35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CDB-1144-4772-BA2F-F8FE132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6AF-803F-46FA-B133-3EE64B8132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0840" y="668160"/>
            <a:ext cx="1000080" cy="6066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0920" y="668160"/>
            <a:ext cx="2387520" cy="606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7000" y="668160"/>
            <a:ext cx="3409920" cy="6066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8760" y="3543480"/>
          <a:ext cx="72388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43480"/>
                    <a:ext cx="72388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0080" y="457200"/>
          <a:ext cx="7297560" cy="33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457200"/>
                    <a:ext cx="7297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-74160" y="1905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040" y="505944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497520" y="34264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montañ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0320" y="3427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de lome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82520" y="3426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12160" y="365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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linación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alud en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7230240" y="557172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 = Tan </a:t>
            </a: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= 1/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23920" y="1143720"/>
            <a:ext cx="959760" cy="1501200"/>
            <a:chOff x="7423920" y="1143720"/>
            <a:chExt cx="959760" cy="1501200"/>
          </a:xfrm>
        </p:grpSpPr>
        <p:sp>
          <p:nvSpPr>
            <p:cNvPr id="56" name=""/>
            <p:cNvSpPr/>
            <p:nvPr/>
          </p:nvSpPr>
          <p:spPr>
            <a:xfrm flipH="1" rot="16200000">
              <a:off x="7156800" y="1692360"/>
              <a:ext cx="1219320" cy="685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7857720" y="21304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42400" y="246528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2" y="22"/>
                    <a:pt x="2" y="15"/>
                    <a:pt x="5" y="11"/>
                  </a:cubicBezTo>
                  <a:cubicBezTo>
                    <a:pt x="8" y="7"/>
                    <a:pt x="14" y="2"/>
                    <a:pt x="19" y="1"/>
                  </a:cubicBezTo>
                  <a:cubicBezTo>
                    <a:pt x="24" y="0"/>
                    <a:pt x="33" y="5"/>
                    <a:pt x="3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7634520" y="1138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116920" y="1877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8389800" y="0"/>
          <a:ext cx="640080" cy="685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9800" y="0"/>
                    <a:ext cx="64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17840" y="152280"/>
            <a:ext cx="49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abla 2  Clasificación topográfica en la Repúblic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3700440"/>
            <a:ext cx="69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8320" y="357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43:51Z</dcterms:created>
  <dc:creator>Alejandro Carrillo</dc:creator>
  <dc:description/>
  <dc:language>en-US</dc:language>
  <cp:lastModifiedBy>Monica Balsas</cp:lastModifiedBy>
  <dcterms:modified xsi:type="dcterms:W3CDTF">2003-03-19T20:37:34Z</dcterms:modified>
  <cp:revision>13</cp:revision>
  <dc:subject/>
  <dc:title>Presentación de PowerPoint</dc:title>
</cp:coreProperties>
</file>